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applause.wav" ContentType="audio/x-wav"/>
  <Override PartName="/ppt/media/image43.jpeg" ContentType="image/jpeg"/>
  <Override PartName="/ppt/media/image32.jpeg" ContentType="image/jpeg"/>
  <Override PartName="/ppt/media/image5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1A83-0F35-49E7-9C84-4F1AE540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63D-FCD7-4079-9D3A-C7403686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572-2D8A-4379-8309-9AB954B3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2737-7894-4ECA-8938-6C4A3684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70AD-80A9-466B-977C-00E00178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D353-8593-4F71-A109-7217E654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946B-068A-4328-A7B4-E61F8D5E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8209-AFE8-434F-89CE-7974C98D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845D-B4C9-4DE3-B78C-619405F5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91E7-6E63-4B84-9D9F-A31EA99E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8400-A6F5-4069-A60B-0E71A78C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A359-3140-467B-A3AB-19E319B7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A771-DA5E-4CB5-A6D8-5113A081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B616-FB85-40D7-8F8A-6EE36C52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D7E4-D6BA-4AF4-8043-32DC2616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0DB2-15C8-4EB8-A06E-71DE8943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0CEB-1752-4CFC-B327-441018DE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47F21-1076-41A4-8C2D-6B0AC2DE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ED66E-4770-4AB7-990C-3A2D08B7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353C2-AA4B-482F-B612-22B44D8C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50CD2-DAB3-405F-A21B-E2CC06D2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B97C7-8F30-4CDD-87BA-F120862E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803-B7DB-4883-85C3-4901BB66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72B66-7851-4374-BD67-DDFB6555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6A148-88FE-484A-AD0E-E7738E64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CC176-2565-4A0D-9A48-C86959B1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EA473-6BCB-4259-B98F-D6E036AE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0D525-B591-497C-B490-AFDF229A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75AA3-856D-4CEF-B954-53513A3E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7DA31-FFDE-47E7-A131-EDE053A8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86C-85BD-4076-A1A5-A52F4DE9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1B48-E7EC-4FDB-87EB-AE085B68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486-EF7F-40C3-B7C8-9A535547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AA1D-D5AD-4326-BE29-DB354A0A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465-D087-4883-9380-BD9DEF1B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484-44CD-4460-8AA5-C4B733A3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0EA1-2B31-49EC-A8D9-EF2987712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54F0-40F0-4D22-AF57-7BA28F0059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9AC0-3735-46F8-B21B-C50344AAE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 the Beginning…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352680" y="5257440"/>
            <a:ext cx="5181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d on Genesis 1:1-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819520" y="259092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d said, “Let the earth bring forth all living creatures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2057400" cy="1508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400800" y="1676520"/>
            <a:ext cx="2190600" cy="1460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809880" y="251460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324480" y="43434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457200" y="4419720"/>
            <a:ext cx="2514600" cy="17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so it happen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438720" cy="222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d saw how good it w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2921040" cy="3047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791320" y="1295280"/>
            <a:ext cx="2957400" cy="29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 God said: “Let us make man in our image, after our likeness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286000" cy="1514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7200" y="4572000"/>
            <a:ext cx="2209680" cy="1479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352680" y="3048120"/>
            <a:ext cx="2514600" cy="1508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6477120" y="167652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6629400" y="4419720"/>
            <a:ext cx="2057400" cy="163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so it happen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038840" cy="26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d looked at everything and found it very goo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1447560" cy="941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895480" y="1676520"/>
            <a:ext cx="1447920" cy="928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086600" y="1752480"/>
            <a:ext cx="1357200" cy="903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990720" y="297180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6172200" y="2971800"/>
            <a:ext cx="2057400" cy="1370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3352680" y="3429000"/>
            <a:ext cx="225288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6324480" y="4648320"/>
            <a:ext cx="1828800" cy="126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066680" y="4648320"/>
            <a:ext cx="1676520" cy="12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arth was a formless wasteland and darkness covered the aby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11600" y="2362320"/>
            <a:ext cx="3620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 God said, “Let there be light,” and there was l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190760" cy="31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d saw how good the light w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096240" cy="405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d created every kind of plant, vegetable, and tr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400800" y="4191120"/>
            <a:ext cx="2209680" cy="1831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29000" y="2971800"/>
            <a:ext cx="2424240" cy="1819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705720" y="1905120"/>
            <a:ext cx="1719000" cy="1374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09480" y="4267080"/>
            <a:ext cx="2057400" cy="15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God saw how good it w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019920" cy="400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d said, “Let the water teem with an abundance of living creature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514600" cy="1933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400800" y="4495680"/>
            <a:ext cx="2193840" cy="1463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657600" y="1676520"/>
            <a:ext cx="2036880" cy="39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let birds fly beneath the sky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2103480" cy="1655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324480" y="16192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657600" y="2895480"/>
            <a:ext cx="2036880" cy="16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d saw how good it w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2640" y="53337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God blessed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047760" cy="2908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27672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4:41:06Z</dcterms:created>
  <dc:creator>Debra Coter</dc:creator>
  <dc:description/>
  <dc:language>en-US</dc:language>
  <cp:lastModifiedBy>Debra Coter</cp:lastModifiedBy>
  <dcterms:modified xsi:type="dcterms:W3CDTF">2008-01-14T22:38:29Z</dcterms:modified>
  <cp:revision>7</cp:revision>
  <dc:subject/>
  <dc:title>In the Beginning….</dc:title>
</cp:coreProperties>
</file>